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9A0-B8D5-4A36-BAA6-E97B1133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8DE-0BA3-40F1-BDCD-14465CA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80175-3A3E-4BB8-96EE-186BAA64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E66D5F-B4F2-43B8-ADD2-34BEF5D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48425-B5D4-4031-857E-F2C7DB3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6C7851-D4DC-4AE0-BEDB-C7BC24DA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520F3B-BE75-4ADC-A3F5-D527F54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F46A98-AA7F-4B6E-947C-8F2927B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412F0-19D5-44F0-B931-E07CEB3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F9DC1-D7B7-40D3-8DD2-E61AC7EC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9C67F5-2260-49F0-9292-A66DB662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F32141-3F88-4C33-8FC1-D5330DA0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AB9-B377-4B47-8F41-F1EA296E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D29118-B488-4E42-AA68-A61B4836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609FFA-E67C-48F0-82B2-B4FEBEE3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F7310-B1E1-49DB-ADD5-E97D2364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9B27FD-05DC-4D32-94D2-E57A9229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68C70-3002-4C7B-9BF3-A13C883D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ACD9D4-CB0E-4F41-A5AC-D5BAD229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96C343-26E4-4C33-9C51-D189416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71B233-4F77-4F5E-8FED-E8CDC71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20772A-DEC9-413E-9B48-34AB8168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B09203-23D5-496E-A8A3-17DC3EF0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F79-D527-4FB7-854B-62B94305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1A7F76-D973-42AD-968D-40C37E43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48D1CB-96E2-40E7-9D39-2D77F68A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69EA9D-BB70-4EDF-A6EC-8B0C5B8F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91736F-4BA8-4E87-AE92-1B4D615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944A3E-713B-4FAE-8A65-8416ED5C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0BA8CD-1523-43FE-9948-CD7F4735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7BE000-CA53-4075-BD09-04A1E809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435BEE-1FDF-4B70-AC2E-036A3B8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3E26ED-AF8A-442F-8C23-C167153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B1EED2-FDB3-43F8-A9E4-ACC4014B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A391-B514-40A3-9209-613344A0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29B666-D91E-4525-A767-ADE8E88E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959CB5-DBDE-4E36-A35D-7F5135A1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5BBBB-63AD-4B38-AAD2-D3FA2F9E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A5DBDE-603A-4C69-AA1E-11856093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7637A5-9029-477A-926D-C399F1D3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D343C8-EAA3-492C-96AF-8A9626C3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EFA1AA-E06C-4897-AF93-ADD5817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7D4CA8-D1E5-4F35-8EFB-39F32FD8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4229E1-7278-4C69-83AC-D2279E82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1496D0-54F9-4E84-B97D-4C036ED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5363-097E-47E2-B485-0AC45501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B565E2-1B49-441B-AB26-1FC886C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8F6449-BF58-4021-A8F7-F6272E57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B881A9-E70C-42AE-905A-B9AB092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08DB9F-3B4C-4FEA-9C89-B6696A06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2BFA46-8F03-4152-80DA-E99C57A8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0E4EA3-D0FB-4E6B-AF72-175802CC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1DB25-6EA9-498E-85DD-DDCAAA56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1AC6AE-FF19-40EB-BFEA-31BDD82B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BFFA75-753A-44E4-A52C-848D5FB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160D41-1F7D-4461-B551-DDD0909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D00E-B7FA-4B98-8E14-FA91DD8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2621D2-BD13-4236-9475-0C75240A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9BAD02-C7DA-41F4-9137-0F9F7B3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B7A7AB-49FE-41FE-8A21-BBE0B38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3769B8-8F6F-4B8F-ACC7-3F9C29C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354E5C-CF19-4828-983C-D1E2E5C1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987B0C-F8BB-4ECC-860E-7FD57571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40977E-9F02-4C81-8825-DB3C49ED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8A9B09-AC0F-4C01-A037-D52122D8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62B437-6C62-43CE-B9C7-8F27ADD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993D9D-A25D-4981-9CC8-5A3657C0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AE76-C7C2-4163-89F8-88157A3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007649-765E-40D2-A95D-83816B11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D10391-C582-4986-8000-A00F33C4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1D22F7-B687-47DB-8D89-75019437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9F2695-3BC6-46A5-AE71-6283A4BD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28BACE-E571-406C-9CCD-D7F78E8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93E49B-07F8-4E20-8619-EE09E3C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364D55-6084-4FBC-AE85-D766ECB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618C65-C6A3-4156-85B3-4108E12D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6048F3-793A-434A-8083-2E5B77E5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CC283C-91BD-445C-A5FE-C77EB7F1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7FD4-A20F-45DE-AB20-18D14E30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054297-27A6-46B9-8CCE-D4E193E3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89DF05-B808-489E-8490-3063A8E1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D34816-7E54-4889-8BD1-CC9B7A3B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4FB940-1228-4716-95F1-B93DDA49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DAC07A-843B-434A-B468-4C403F12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9411CD-A692-4B70-AAE5-D01C9E0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0DA786-0824-4CA1-BE46-14F6477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52D978-9E1C-44AA-8705-71CBC40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0C5AD6-BC5D-45BF-B5A8-5B5E9C82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C89F1D-AFFA-47C3-B9D7-3802001C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2CD7-58A6-4677-9DE0-472C8A2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7E9045-7090-4584-8B06-A8081B23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5C77-5E05-4A0F-A92F-D529766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EEB-03F4-4755-BC60-C23EE492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E32-B52A-453C-A080-F50323D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D0FA-794E-49BB-8E47-67F27A7E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A0C0-C938-4EF4-BFF7-05FC1622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79F8-FC25-4955-90F3-4D21116D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8EBF-B728-4AE1-A272-B916ED11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BB07-7405-4D56-A463-7A7ECB28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80B8-619B-4CCF-AD15-6A2DD449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3014-9DA9-4429-80D5-A2AE7AAC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8662-EE0E-4361-8AB9-1605D3C5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2D40-CC19-4341-ABEF-71A1618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D71-563B-47F2-87F1-655E5F6A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444B-2E2A-4B58-BB0F-4D34BA3E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8354-A7BA-4752-94F9-77EE948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3AF7-3980-4DB5-93E1-AA8CABE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7C4A-88DF-4E3E-93CA-F9420A99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C7E1-AA83-40AA-9331-D2A569F0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A617-ED49-4091-B5CA-2D0FC0E3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5596-4468-4672-A104-529AD458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12F-D415-4522-B5D1-543FA41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1B1C5-D15C-469C-B018-E2478487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4D1-D555-4CC8-80BC-F8EC37E4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2877A-B2BC-484C-92EF-D2FED5CC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FF182-3AE2-4D3A-B003-04DE6600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D8AAA-BAF3-46C8-8AB4-F0B6761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3BE50-6A6A-4858-BD07-72568103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205E8-7767-4C60-93BF-1D28FA06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7CBDF-EEA2-4310-B2DD-0A6A9F0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FB69B-CEB5-40F7-AEAB-57BA978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F7788-089D-4748-B0D0-30139C4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F1452-B8E9-4689-AA77-826617BD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29A65-11E5-4E32-86B8-C0888047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CEF-4EF8-42C8-8829-BFFFD2F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D51F5-A445-46D6-BE43-1F55EABD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B367E-289E-4194-AD4B-F3BF5532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58E7E-917F-490B-9BE1-31F23F6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49346-8FA8-4EC5-913E-4B51568E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BBE18-C1A2-4FBE-B68E-FD6B9EEC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C9C94-25E2-4C08-BFCA-B9C3294D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DD502-9749-45E2-A58D-A9619F31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5358C-C205-45E1-BC7A-72FA9DA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24683-CDB1-49EB-92C2-B81A35B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584D4-8DDC-4F57-8C8B-4006070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F47-EC8C-468C-9505-6EEF54C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30A76-6738-4CD4-8641-0B287CB9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92DE7-783A-42D0-85FF-9AECBC3D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9D304-D1BB-436E-9AC1-F7ACFB49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FD845-1CA9-4C0A-B8CB-C95919AE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2B02C-09A5-43A5-A2FF-1688ABCC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76223-5CC1-45D8-9336-E032086E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04E4C-DC25-4992-B14E-CA57A886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453BC-A4C2-4AA8-952B-E31223D0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F666E-A4DA-4685-810C-7878422F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B3EAF-D2B4-4935-9A1A-4B0DC26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C58-3CAD-4656-B6DD-034C436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5DDA6-2C64-4F45-BD02-E7D618B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BC68C-0C7A-4EB5-816E-0B4465F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08913-5C09-4D8A-9F8B-92675D9A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B7DDE-5BB7-41F3-8A46-F1FD2953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8D24D-FB2B-4BCC-86C0-36A61DC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9DA8B8-D3DD-45BD-A471-BC938E1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006DC-2322-4A86-B4C8-1E707075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07953-C2DB-4BCF-A8DE-363F10EA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29FD43-94AB-4D37-AB20-8E278841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26BD19-0476-484B-8066-59491BAE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D19-65CE-4AE0-9D31-E58E0AA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67EE6B-D28A-4D99-8186-902C7F3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A7DFC-2279-4400-AAF7-480EA1A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3B79FC-A886-415B-A089-4A64C2F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14046-D6B4-488C-8C01-7836B81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586FBE-C6B7-4B0A-B601-189F8792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8795C-541E-4395-B09D-5319B442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9F28D-D3CF-42E4-A87A-19F23311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A53CD8-B336-4099-9318-218EBCF3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03D1C-9DB7-4E48-A632-6CF7933F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ADAE0-2C8E-4276-8F66-46D04812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48F15-18B8-4192-9A5D-D847AB70429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3A498-DF3F-4613-91B5-40DF446B528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3F68B-2C54-48B4-AD12-B82BB254ACC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F199F-7CB1-4D30-9D97-3A42D2C265F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87195-3BE9-409F-BA4B-32C245A9412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6F717-47C5-4EF4-AF2A-8E971575A22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F8DEC-1373-4F58-AA8E-B9AEAC5DE52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68AC3-4F94-4D07-B99E-1DEDA7FA1ED2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83CFE-40CD-4825-BDF0-681F8D47806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B8532-E003-4317-8D29-29924FA1EDFD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F4025-8FAF-4ED1-972B-615BABA38A9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55C8D-11A2-483D-8ED4-0C1E677E4FE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13965-9C0E-45FA-8C6F-EA8A1A62770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37E6F-89CA-4B95-9BD5-EE07D174BE04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07E6F-3121-40FA-AE45-924237D7721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1404C-6103-47E7-A266-5D41CEF9C1AE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07F01-31F1-402F-9195-3D54F0B4E13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8B58F-2798-44E3-852E-67682EE6DC6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B1D81-1E0C-41F6-B443-519C111BEBB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DEC23-17C0-483A-A922-6F509E2CB0F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0C01A-1DC0-480D-A611-1D45AFB5870D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240DD-191A-4AF0-A54F-624E52EDB14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B4F84-B789-4013-9E2F-2FD61C161113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93F55-1617-47A8-A385-D93362F296A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0034B-0558-4C10-8116-12C836EED71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D828A-F69C-488E-97F0-B7248C2E9C1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6DBFB-0543-4C95-AB96-C75214FDDCC1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7AD3F-2CA1-4CE7-A2AF-DEA33A014CB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1501B-D42A-4D18-92BB-904977C9266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rldproblemsshroder.wikispaces.com/7.+Week+4+(Jan+24+to+Jan+28)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Becoming a Child Soldier Script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Mr. Rush/ Mr. Farrell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Question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y do people join gangs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Prediction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y does Ishmael Beah become such a child soldier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ompare/ Contras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pare/ Contrast why gang members in America join gangs and why Ishmael Beah’s becomes a child soldi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2 Similariti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3 Differenc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3144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3144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Question- join gangs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Predict- why Ishmael a child soldie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Compare/ Contrast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cript Chapter 12: Why Ishmael Beah becomes a child soldier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4460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Objectives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94460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Analyze the results of political, economic, and social oppression and the violation of human rights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crip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24a82"/>
                </a:solidFill>
                <a:uFillTx/>
                <a:latin typeface="Calisto MT"/>
                <a:hlinkClick r:id="rId2"/>
              </a:rPr>
              <a:t>http://worldproblemsshroder.wikispaces.com/7.+Week+4+%28Jan+24+to+Jan+28%29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Groups- Assigned by pape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Read Chapter 12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d of today- atttach 1 page draft to craigrushxu@gmail.com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nal Draft due tmw.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21:17:15Z</dcterms:created>
  <dc:creator>Craig Rush</dc:creator>
  <dc:description/>
  <dc:language>en-US</dc:language>
  <cp:lastModifiedBy>Craig Rush</cp:lastModifiedBy>
  <dcterms:modified xsi:type="dcterms:W3CDTF">2011-01-23T21:24:41Z</dcterms:modified>
  <cp:revision>1</cp:revision>
  <dc:subject/>
  <dc:title>Becoming a Child Soldier Script</dc:title>
</cp:coreProperties>
</file>